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png" ContentType="image/png"/>
  <Override PartName="/ppt/media/image8.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882502-5888-4E28-A92C-0148DDF6C4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4BB66A-F2E8-4054-9CE9-173D4A0372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00DD81-0A8B-44D2-9FF0-565915000F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6E0CA9-3E7F-4D7D-B5A3-E7EC6ECAB8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28484C-C026-4249-B6BC-C81F327C91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037301-5349-4602-BC8A-0C8941E43A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C11A01-2B55-4F07-A602-A66E6F8F49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509A18-7FD6-491F-93E8-A4F6140204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67417C-7807-47E8-A4A4-C65FE48195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A1B4F0-192B-4795-A271-CDEF6BECAE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00B023-7F88-4BEE-A0E3-AD80AABEF2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35FEEF-64D8-4C74-A1A4-677E4F57BE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F1E884-364F-48FD-94E2-BA56ED20ED69}"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2819520" y="2523960"/>
            <a:ext cx="4114800" cy="4073760"/>
          </a:xfrm>
          <a:prstGeom prst="rect">
            <a:avLst/>
          </a:prstGeom>
          <a:ln w="0">
            <a:noFill/>
          </a:ln>
        </p:spPr>
      </p:pic>
      <p:sp>
        <p:nvSpPr>
          <p:cNvPr id="42" name=""/>
          <p:cNvSpPr/>
          <p:nvPr/>
        </p:nvSpPr>
        <p:spPr>
          <a:xfrm>
            <a:off x="4240440" y="905040"/>
            <a:ext cx="22701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CINDERELLA</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680"/>
            <a:ext cx="8229600" cy="23162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rebuchet MS"/>
              </a:rPr>
              <a:t>Once upon a time Cinderella got an invitation to a dance party at her school. But her mean, old, witch mom and dad made her stay at home and clean. She couldn’t go and have fun at the party.</a:t>
            </a:r>
            <a:endParaRPr b="0" lang="en-US" sz="2400" spc="-1" strike="noStrike">
              <a:solidFill>
                <a:srgbClr val="ffff99"/>
              </a:solidFill>
              <a:latin typeface="Arial"/>
            </a:endParaRPr>
          </a:p>
        </p:txBody>
      </p:sp>
      <p:sp>
        <p:nvSpPr>
          <p:cNvPr id="44" name="PlaceHolder 2"/>
          <p:cNvSpPr>
            <a:spLocks noGrp="1"/>
          </p:cNvSpPr>
          <p:nvPr>
            <p:ph/>
          </p:nvPr>
        </p:nvSpPr>
        <p:spPr>
          <a:xfrm>
            <a:off x="533520" y="4952880"/>
            <a:ext cx="8229600" cy="1905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45" name="" descr=""/>
          <p:cNvPicPr/>
          <p:nvPr/>
        </p:nvPicPr>
        <p:blipFill>
          <a:blip r:embed="rId1"/>
          <a:stretch/>
        </p:blipFill>
        <p:spPr>
          <a:xfrm>
            <a:off x="3200400" y="2286000"/>
            <a:ext cx="2714760" cy="4276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680"/>
            <a:ext cx="8229600" cy="14018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rebuchet MS"/>
              </a:rPr>
              <a:t>Cinderella cleaned and cleaned very quickly. Then she got dressed and ran to the party.</a:t>
            </a:r>
            <a:endParaRPr b="0" lang="en-US" sz="2800" spc="-1" strike="noStrike">
              <a:solidFill>
                <a:srgbClr val="ffff99"/>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48" name="" descr=""/>
          <p:cNvPicPr/>
          <p:nvPr/>
        </p:nvPicPr>
        <p:blipFill>
          <a:blip r:embed="rId1"/>
          <a:stretch/>
        </p:blipFill>
        <p:spPr>
          <a:xfrm>
            <a:off x="3429000" y="1828800"/>
            <a:ext cx="2724120" cy="40575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rebuchet MS"/>
              </a:rPr>
              <a:t>On the way she found a little, sick mouse. The mouse was trapped under a big stone. It couldn’t free itself. But the girl freed the mouse. All of the sudden something magical happened.</a:t>
            </a:r>
            <a:endParaRPr b="0" lang="en-US" sz="2400" spc="-1" strike="noStrike">
              <a:solidFill>
                <a:srgbClr val="ffff99"/>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51" name="" descr=""/>
          <p:cNvPicPr/>
          <p:nvPr/>
        </p:nvPicPr>
        <p:blipFill>
          <a:blip r:embed="rId1"/>
          <a:stretch/>
        </p:blipFill>
        <p:spPr>
          <a:xfrm>
            <a:off x="2514600" y="2362320"/>
            <a:ext cx="4419720" cy="4419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rebuchet MS"/>
              </a:rPr>
              <a:t>Cinderella’s clothes changed from regular old clothes into a very beautiful ball dress.</a:t>
            </a:r>
            <a:endParaRPr b="0" lang="en-US" sz="2800" spc="-1" strike="noStrike">
              <a:solidFill>
                <a:srgbClr val="ffff99"/>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54" name="" descr=""/>
          <p:cNvPicPr/>
          <p:nvPr/>
        </p:nvPicPr>
        <p:blipFill>
          <a:blip r:embed="rId1"/>
          <a:stretch/>
        </p:blipFill>
        <p:spPr>
          <a:xfrm>
            <a:off x="2558880" y="1704960"/>
            <a:ext cx="4473720" cy="4848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680"/>
            <a:ext cx="8229600" cy="1706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rebuchet MS"/>
              </a:rPr>
              <a:t>She was very surprised. She went to the party and nobody recognized her. She danced and danced all night. Even the Prince saw her and fell in love with her.</a:t>
            </a:r>
            <a:endParaRPr b="0" lang="en-US" sz="2400" spc="-1" strike="noStrike">
              <a:solidFill>
                <a:srgbClr val="ffff99"/>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57" name="" descr=""/>
          <p:cNvPicPr/>
          <p:nvPr/>
        </p:nvPicPr>
        <p:blipFill>
          <a:blip r:embed="rId1"/>
          <a:stretch/>
        </p:blipFill>
        <p:spPr>
          <a:xfrm>
            <a:off x="2743200" y="1828800"/>
            <a:ext cx="4011480" cy="46483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680"/>
            <a:ext cx="8229600" cy="31543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rebuchet MS"/>
              </a:rPr>
              <a:t>Cinderella was very happy until her father appeared at the door and started to shout at her. She was sad, because her father was so angry on her. There was at the party a count, who recognized them as his far away relatives. That  count invited Cinderella and her father to live with him in his palace.</a:t>
            </a:r>
            <a:endParaRPr b="0" lang="en-US" sz="2400" spc="-1" strike="noStrike">
              <a:solidFill>
                <a:srgbClr val="ffff99"/>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60" name="" descr=""/>
          <p:cNvPicPr/>
          <p:nvPr/>
        </p:nvPicPr>
        <p:blipFill>
          <a:blip r:embed="rId1"/>
          <a:stretch/>
        </p:blipFill>
        <p:spPr>
          <a:xfrm>
            <a:off x="2286000" y="3124080"/>
            <a:ext cx="4419720" cy="33148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554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rebuchet MS"/>
              </a:rPr>
              <a:t>The Prince asked the beautiful girl out for several times then finally asked her to marry him. Cinderella accepted only if the little mouse could live with them. An the happy couple and their animal friend lived happily ever after.</a:t>
            </a:r>
            <a:endParaRPr b="0" lang="en-US" sz="2000" spc="-1" strike="noStrike">
              <a:solidFill>
                <a:srgbClr val="ffff99"/>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63" name="" descr=""/>
          <p:cNvPicPr/>
          <p:nvPr/>
        </p:nvPicPr>
        <p:blipFill>
          <a:blip r:embed="rId1"/>
          <a:stretch/>
        </p:blipFill>
        <p:spPr>
          <a:xfrm>
            <a:off x="1905120" y="2257560"/>
            <a:ext cx="5562360" cy="41702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10T13:45:54Z</dcterms:created>
  <dc:creator>ws03</dc:creator>
  <dc:description/>
  <dc:language>en-US</dc:language>
  <cp:lastModifiedBy>ws03</cp:lastModifiedBy>
  <dcterms:modified xsi:type="dcterms:W3CDTF">2009-12-10T14:12:47Z</dcterms:modified>
  <cp:revision>2</cp:revision>
  <dc:subject/>
  <dc:title>Diapozitivul 1</dc:title>
</cp:coreProperties>
</file>